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8458-F201-48EC-B83C-B7CE617069E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875B-63B5-4B3F-9355-1B977ADD2A9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8747-E424-4B79-8FE0-DD2910575AD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3FB6-F2F7-4ADA-956E-35F23F106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FE8B-9CFF-40A7-A8EF-49E62B11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2E7F-E1D1-43BA-8B43-CC702468C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B912-EB15-43C9-B0B4-6D38F73F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85D4-57D3-43E6-A23A-FD5EA4EF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B0C3-C73A-4CC4-A74B-6B4285BD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92E4-0AC0-438C-8FD2-CF116559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527C-DBCE-4052-A797-DB563E23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C294-85AA-4C8F-AB96-1CA6B5A1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FDEB-1DFC-4E90-8037-C04766AD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49B7-6A75-43FB-9CF3-896F735B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5730-0C67-4341-8581-DD58C352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4487-95F4-4A6D-A40D-FF10E4FC42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928960"/>
            <a:ext cx="7772400" cy="1255680"/>
          </a:xfrm>
          <a:prstGeom prst="rect">
            <a:avLst/>
          </a:prstGeom>
          <a:noFill/>
          <a:ln w="38160">
            <a:solidFill>
              <a:srgbClr val="ff0000">
                <a:alpha val="49000"/>
              </a:srgbClr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0000"/>
                </a:solidFill>
                <a:latin typeface="Calibri"/>
                <a:ea typeface="Arial"/>
              </a:rPr>
              <a:t>ANIMAL TESTIN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6760" y="357120"/>
            <a:ext cx="17859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d9d9d9"/>
                </a:solidFill>
                <a:latin typeface="Calibri"/>
              </a:rPr>
              <a:t>Celine Teiss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d9d9d9"/>
                </a:solidFill>
                <a:latin typeface="Calibri"/>
              </a:rPr>
              <a:t>Nicolas Thom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d9d9d9"/>
                </a:solidFill>
                <a:latin typeface="Calibri"/>
              </a:rPr>
              <a:t>Julie Velas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d9d9d9"/>
                </a:solidFill>
                <a:latin typeface="Calibri"/>
              </a:rPr>
              <a:t>Justine Zorz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6429240" y="285840"/>
            <a:ext cx="1492560" cy="2162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714240" y="4643280"/>
            <a:ext cx="1627200" cy="2071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3286080" y="5000760"/>
            <a:ext cx="5214960" cy="1274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4"/>
          <a:stretch/>
        </p:blipFill>
        <p:spPr>
          <a:xfrm>
            <a:off x="2714760" y="714240"/>
            <a:ext cx="2571480" cy="1285920"/>
          </a:xfrm>
          <a:prstGeom prst="rect">
            <a:avLst/>
          </a:prstGeom>
          <a:ln w="0">
            <a:noFill/>
          </a:ln>
          <a:effectLst>
            <a:outerShdw dist="660229" dir="7380331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8571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II.  Real needs of test: can it happe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857160" indent="-857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57160" indent="-857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st on animals for household produ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857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cosme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857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s that really necessar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857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the pharmaceutical secto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857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existence of alternatives is unden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857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vage or civilized behavio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857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857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857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7772400" cy="33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fr-FR" sz="4400" spc="-1" strike="noStrike">
                <a:solidFill>
                  <a:srgbClr val="ff0000"/>
                </a:solidFill>
                <a:latin typeface="Calibri"/>
              </a:rPr>
              <a:t>III. Remedies and sol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re are alternatives to animal t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http://www.diva-yoga.com/images/billet/mains_lumiere.jpg"/>
          <p:cNvPicPr/>
          <p:nvPr/>
        </p:nvPicPr>
        <p:blipFill>
          <a:blip r:embed="rId1"/>
          <a:stretch/>
        </p:blipFill>
        <p:spPr>
          <a:xfrm>
            <a:off x="566640" y="420840"/>
            <a:ext cx="1938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ff0000"/>
                </a:solidFill>
                <a:latin typeface="Calibri"/>
              </a:rPr>
              <a:t>For example 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use of cell and tissue cultures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cro-organisms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omputer modeling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sts on volunteer human guinea pi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To conclu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28760" y="14284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Calibri"/>
              </a:rPr>
              <a:t>do without animal experimentation is necessary and essenti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Calibri"/>
              </a:rPr>
              <a:t>everybody has to do tests without making suffering anim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Calibri"/>
              </a:rPr>
              <a:t>Moreover, in theory an animal laboratory does not mistreat anim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Calibri"/>
              </a:rPr>
              <a:t>Tests on animals are certainly known to disappear….but whe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Calibri"/>
              </a:rPr>
              <a:t>a lack of willingness and ways to improve the treatments on animals of both industrials and resear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Calibri"/>
              </a:rPr>
              <a:t>the commitment to buy brands with a code of ethics on the tes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Calibri"/>
              </a:rPr>
              <a:t>to submit them and force them to chan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ous-titre 2"/>
          <p:cNvSpPr/>
          <p:nvPr/>
        </p:nvSpPr>
        <p:spPr>
          <a:xfrm>
            <a:off x="1071720" y="1857240"/>
            <a:ext cx="6400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What do you think about animal tes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 you see other solutions to remedy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Would you prefer that we made it on human rather than on anim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71680" y="200016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What is the Vivise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I.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Regulations across count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II.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Real needs of test: can it happ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III.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Remedies and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92852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alibri"/>
              </a:rPr>
              <a:t>What is the vivisectio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An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peration performed on a living anim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1357200" y="4500720"/>
            <a:ext cx="652464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00040" y="856800"/>
            <a:ext cx="8229600" cy="5072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ir origin in the first century , with the work of Galen, anatomist and physiologist, who recommended to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rely on experimentation (dissection) rather than on the messag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he dissectio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f dead animals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can identify the position of orga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laude Bernar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17th century. He cooked dogs in ovens specially designed for this purpose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very minute, five animals die in French laboratories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Worldwide, twenty-five animals die every second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lmost all the products we use have been tested on anim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429080" y="1428840"/>
            <a:ext cx="309564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42876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 this, animals are imprisoned in metal cages, forced to endure forced ingestions, irrited on the skin or ey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Draize test), mutilations, irradiations, contagion 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xperiments unreliabl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lternative methods are both more accurate, less expensive and do not inflict suffer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ut habits die hard and many researchers refuse to switch to these more modern methods and more effici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eriments on animals = hindrance to progres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ontinue year after year to take its toll, both human and anim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REGULATIONS ACROSS COUNT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uropean legisl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ince September 2004: testing finished products on animals is prohibi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ince September 2009: testing ingredients (or combination of ingredients) on animal is prohibi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y 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6553080" y="4437000"/>
            <a:ext cx="255600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REGULATIONS ACROSS COUNT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gulations evolve slowly, but some countries are trying to make a differ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example of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611280" y="3500280"/>
            <a:ext cx="2041560" cy="3071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5508720" y="2997360"/>
            <a:ext cx="3405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REGULATIONS ACROSS COUNT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problem of United States of 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285840" y="2786040"/>
            <a:ext cx="2678040" cy="3444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3564000" y="2781360"/>
            <a:ext cx="5256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8:29:45Z</dcterms:created>
  <dc:creator>J'n'B</dc:creator>
  <dc:description/>
  <dc:language>en-US</dc:language>
  <cp:lastModifiedBy>J'n'B</cp:lastModifiedBy>
  <dcterms:modified xsi:type="dcterms:W3CDTF">2009-12-08T12:51:54Z</dcterms:modified>
  <cp:revision>31</cp:revision>
  <dc:subject/>
  <dc:title>Diapositive 1</dc:title>
</cp:coreProperties>
</file>